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427-900F-4259-9B6A-326F0B53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0428-558D-4199-85A1-C1F4A890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99B8-6B99-474C-A842-1B1FB188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130-3AC7-44C1-ACBE-DAA4F0BD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0B61-AAE4-408D-9B8A-B34CE976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EF94-0D1D-4B7A-B9F7-8185673C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97E-8331-4688-8BDF-60778C25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F8CD-6CB1-4517-8DD7-45D695A4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B859-72D5-4466-A222-30322076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BE9-2676-4F33-99CB-3B359135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06DF-4533-4F20-B389-AD589A5D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150C-D583-4F55-B337-04EE022F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6113-BE94-4408-BEB0-CE9385D437D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ena RDF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stantinos Tz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na OWL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ontology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used to retrieve existent resources (Classes, individuals, properties etc) or create new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es are represented by Ont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Class methods can be used to view the instances, superclasses, subclasses, restrictions etc of a particula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Class provides methods in order to assert subclass/superclass relations, or class/instance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es may be just ‘labels’ under which individuals are categorized, but they can be more complex, e.g. described using other class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Class, IntersectionClass, EnumeratedClass, ComplementClass, 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WL API provides ways to determine whether a class falls on one of the above 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Model provides methods to construct such complex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na OWL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are represented by Ont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Property provides methods to define the domains and ranges of properties, as well as determine the property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typeProperty, ObjectProperty, SymmetricProperty, FunctionalProperty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property/Superproperty relations can be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are defined on their own (i.e., they are not ‘tied’ to certain classes, as happens in frame-like syste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t is often necessary to obtain ‘the properties of a specific class’. This means finding the properties with a domain ‘containing’ the specific class. Jena provides convenience methods for such ta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WL API Example: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35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ourier New"/>
              </a:rPr>
              <a:t>// Create an empty ontology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OntModel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ontModel = ModelFactory.createOntologyMod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String ns = new String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http://www.example.com/onto1#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String baseURI = new String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http://www.example.com/ont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Ontology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onto = ontModel.createOntology(baseUR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ourier New"/>
              </a:rPr>
              <a:t>// Create ‘Person’, ‘MalePerson’ and ‘FemalePerson’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OntClass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person = ontModel.createClass(ns + "Perso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OntClass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malePerson = ontModel.createClass(ns + "MalePerso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OntClass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femalePerson = ontModel.createClass(ns + "FemalePerso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99cc00"/>
                </a:solidFill>
                <a:latin typeface="Courier New"/>
              </a:rPr>
              <a:t>// FemalePerson and MalePerson are subclasses of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person.addSubClass(malePers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person.addSubClass(femalePers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99cc00"/>
                </a:solidFill>
                <a:latin typeface="Courier New"/>
              </a:rPr>
              <a:t>// FemalePerson and MalePerson are dis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malePerson.addDisjointWith(femalePers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femalePerson.addDisjointWith(malePers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WL API Example: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4725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API Example: Datatype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99cc00"/>
                </a:solidFill>
                <a:latin typeface="Courier New"/>
              </a:rPr>
              <a:t>// Create datatype property 'hasAge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DatatypeProperty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hasAg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ontModel.createDatatypeProperty(ns + "hasAg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99cc00"/>
                </a:solidFill>
                <a:latin typeface="Courier New"/>
              </a:rPr>
              <a:t>// 'hasAge' takes integer values, </a:t>
            </a:r>
            <a:r>
              <a:rPr b="1" lang="en-US" sz="1800" spc="-1" strike="noStrike">
                <a:solidFill>
                  <a:srgbClr val="99cc00"/>
                </a:solidFill>
                <a:latin typeface="Courier New"/>
              </a:rPr>
              <a:t>so</a:t>
            </a:r>
            <a:r>
              <a:rPr b="1" lang="el-GR" sz="1800" spc="-1" strike="noStrike">
                <a:solidFill>
                  <a:srgbClr val="99cc00"/>
                </a:solidFill>
                <a:latin typeface="Courier New"/>
              </a:rPr>
              <a:t> its range is 'integer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99cc00"/>
                </a:solidFill>
                <a:latin typeface="Courier New"/>
              </a:rPr>
              <a:t>// Basic datatypes are defined in the </a:t>
            </a:r>
            <a:r>
              <a:rPr b="1" lang="en-US" sz="1800" spc="-1" strike="noStrike">
                <a:solidFill>
                  <a:srgbClr val="99cc00"/>
                </a:solidFill>
                <a:latin typeface="Courier New"/>
              </a:rPr>
              <a:t>‘</a:t>
            </a:r>
            <a:r>
              <a:rPr b="1" lang="el-GR" sz="1800" spc="-1" strike="noStrike">
                <a:solidFill>
                  <a:srgbClr val="99cc00"/>
                </a:solidFill>
                <a:latin typeface="Courier New"/>
              </a:rPr>
              <a:t>vocabulary</a:t>
            </a:r>
            <a:r>
              <a:rPr b="1" lang="en-US" sz="1800" spc="-1" strike="noStrike">
                <a:solidFill>
                  <a:srgbClr val="99cc00"/>
                </a:solidFill>
                <a:latin typeface="Courier New"/>
              </a:rPr>
              <a:t>’</a:t>
            </a:r>
            <a:r>
              <a:rPr b="1" lang="el-GR" sz="1800" spc="-1" strike="noStrike">
                <a:solidFill>
                  <a:srgbClr val="99cc00"/>
                </a:solidFill>
                <a:latin typeface="Courier New"/>
              </a:rPr>
              <a:t>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hasAge.setDomain(pers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hasAge.setRange(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XSD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.integer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99cc00"/>
                </a:solidFill>
                <a:latin typeface="Courier New"/>
              </a:rPr>
              <a:t>// com.hp.hpl.jena.vocabulary.X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99cc00"/>
                </a:solidFill>
                <a:latin typeface="Courier New"/>
              </a:rPr>
              <a:t>// Create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Individual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john = malePerson.createIndividual(ns + "Joh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Individual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jane = femalePerson.createIndividual(ns + "Jan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Individual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bob = malePerson.createIndividual(ns + "Bob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99cc00"/>
                </a:solidFill>
                <a:latin typeface="Courier New"/>
              </a:rPr>
              <a:t>// Create statement 'John hasAge 2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Literal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age2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ontModel.createTypedLiteral("20", XSDDatatype.XSDi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Statement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johnIs2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ontModel.createStatement(john, hasAge, age2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ontModel.add(johnIs2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API Example: Datatype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02 - log2"/>
          <p:cNvPicPr/>
          <p:nvPr/>
        </p:nvPicPr>
        <p:blipFill>
          <a:blip r:embed="rId1"/>
          <a:stretch/>
        </p:blipFill>
        <p:spPr>
          <a:xfrm>
            <a:off x="324000" y="1844640"/>
            <a:ext cx="8280360" cy="1389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03 - log2"/>
          <p:cNvPicPr/>
          <p:nvPr/>
        </p:nvPicPr>
        <p:blipFill>
          <a:blip r:embed="rId2"/>
          <a:stretch/>
        </p:blipFill>
        <p:spPr>
          <a:xfrm>
            <a:off x="34920" y="3933720"/>
            <a:ext cx="88930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WL API Example: Object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99cc00"/>
                </a:solidFill>
                <a:latin typeface="Courier New"/>
              </a:rPr>
              <a:t>// Create object property 'hasSibling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ObjectProperty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hasSibling = ontModel.createObjectProperty(ns + "hasSibling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99cc00"/>
                </a:solidFill>
                <a:latin typeface="Courier New"/>
              </a:rPr>
              <a:t>// Domain and Range for 'hasSibling' is 'Person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hasSibling.setDomain(pers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hasSibling.setRange(pers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99cc00"/>
                </a:solidFill>
                <a:latin typeface="Courier New"/>
              </a:rPr>
              <a:t>// Add statement 'John hasSibling Jane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ourier New"/>
              </a:rPr>
              <a:t>// </a:t>
            </a:r>
            <a:r>
              <a:rPr b="1" lang="el-GR" sz="1800" spc="-1" strike="noStrike">
                <a:solidFill>
                  <a:srgbClr val="99cc00"/>
                </a:solidFill>
                <a:latin typeface="Courier New"/>
              </a:rPr>
              <a:t>and 'Jane hasSibling John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Statement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siblings1 = ontModel.createStatement(john, hasSibling, ja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Statement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siblings2 = ontModel.createStatement(jane, hasSibling, joh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ontModel.add(siblings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ontModel.add(siblings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API Example: Property Restr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99cc00"/>
                </a:solidFill>
                <a:latin typeface="Courier New"/>
              </a:rPr>
              <a:t>// Create object property </a:t>
            </a:r>
            <a:r>
              <a:rPr b="1" lang="en-US" sz="1400" spc="-1" strike="noStrike">
                <a:solidFill>
                  <a:srgbClr val="99cc00"/>
                </a:solidFill>
                <a:latin typeface="Courier New"/>
              </a:rPr>
              <a:t>‘</a:t>
            </a:r>
            <a:r>
              <a:rPr b="1" lang="el-GR" sz="1400" spc="-1" strike="noStrike">
                <a:solidFill>
                  <a:srgbClr val="99cc00"/>
                </a:solidFill>
                <a:latin typeface="Courier New"/>
              </a:rPr>
              <a:t>hasS</a:t>
            </a:r>
            <a:r>
              <a:rPr b="1" lang="en-US" sz="1400" spc="-1" strike="noStrike">
                <a:solidFill>
                  <a:srgbClr val="99cc00"/>
                </a:solidFill>
                <a:latin typeface="Courier New"/>
              </a:rPr>
              <a:t>pous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ObjectProperty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hasSpouse = ontModel.createObjectProperty(ns + "hasSpous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hasSpouse.setDomain(pers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hasSpouse.setRange(pers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Statement spouse1 = ontModel.createStatement(bob, hasSpouse, ja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Statement spouse2 = ontModel.createStatement(jane, hasSpouse, bo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ontModel.add(spouse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ontModel.add(spouse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99cc00"/>
                </a:solidFill>
                <a:latin typeface="Courier New"/>
              </a:rPr>
              <a:t>// Create an AllValuesFromRestriction on hasSpou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Courier New"/>
              </a:rPr>
              <a:t>// </a:t>
            </a:r>
            <a:r>
              <a:rPr b="1" lang="el-GR" sz="1400" spc="-1" strike="noStrike">
                <a:solidFill>
                  <a:srgbClr val="99cc00"/>
                </a:solidFill>
                <a:latin typeface="Courier New"/>
              </a:rPr>
              <a:t>MalePersons hasSpouse only Female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AllValuesFromRestriction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onlyFemalePerson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ontModel.createAllValuesFromRestriction(null, hasSpouse, femalePers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99cc00"/>
                </a:solidFill>
                <a:latin typeface="Courier New"/>
              </a:rPr>
              <a:t>// A MalePerson can have at most one spou</a:t>
            </a:r>
            <a:r>
              <a:rPr b="1" lang="en-US" sz="1400" spc="-1" strike="noStrike">
                <a:solidFill>
                  <a:srgbClr val="99cc00"/>
                </a:solidFill>
                <a:latin typeface="Courier New"/>
              </a:rPr>
              <a:t>s</a:t>
            </a:r>
            <a:r>
              <a:rPr b="1" lang="el-GR" sz="1400" spc="-1" strike="noStrike">
                <a:solidFill>
                  <a:srgbClr val="99cc00"/>
                </a:solidFill>
                <a:latin typeface="Courier New"/>
              </a:rPr>
              <a:t>e -&gt; MaxCardinalityRestri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MaxCardinalityRestriction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hasSpouseMaxCard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ontModel.createMaxCardinalityRestriction(null, hasSpouse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99cc00"/>
                </a:solidFill>
                <a:latin typeface="Courier New"/>
              </a:rPr>
              <a:t>// Constrain MalePerson with the </a:t>
            </a:r>
            <a:r>
              <a:rPr b="1" lang="en-US" sz="1400" spc="-1" strike="noStrike">
                <a:solidFill>
                  <a:srgbClr val="99cc00"/>
                </a:solidFill>
                <a:latin typeface="Courier New"/>
              </a:rPr>
              <a:t>two </a:t>
            </a:r>
            <a:r>
              <a:rPr b="1" lang="el-GR" sz="1400" spc="-1" strike="noStrike">
                <a:solidFill>
                  <a:srgbClr val="99cc00"/>
                </a:solidFill>
                <a:latin typeface="Courier New"/>
              </a:rPr>
              <a:t>constraints</a:t>
            </a:r>
            <a:r>
              <a:rPr b="1" lang="en-US" sz="1400" spc="-1" strike="noStrike">
                <a:solidFill>
                  <a:srgbClr val="99cc00"/>
                </a:solidFill>
                <a:latin typeface="Courier New"/>
              </a:rPr>
              <a:t> defined ab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malePerson.addSuperClass(onlyFemalePers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malePerson.addSuperClass(hasSpouseMaxCar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API Example: Property Restr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04 - log3"/>
          <p:cNvPicPr/>
          <p:nvPr/>
        </p:nvPicPr>
        <p:blipFill>
          <a:blip r:embed="rId1"/>
          <a:stretch/>
        </p:blipFill>
        <p:spPr>
          <a:xfrm>
            <a:off x="144360" y="2708280"/>
            <a:ext cx="874872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WL API Example: Defined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Courier New"/>
              </a:rPr>
              <a:t>// Create class ‘MarriedPerson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OntClass marriedPerson = ontModel.createClass(ns + "MarriedPerso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urier New"/>
              </a:rPr>
              <a:t>MinCardinalityRestriction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mincr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ontModel.createMinCardinalityRestriction(null, hasSpouse, 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Courier New"/>
              </a:rPr>
              <a:t>// A MarriedPerson </a:t>
            </a:r>
            <a:r>
              <a:rPr b="1" lang="en-US" sz="1600" spc="-1" strike="noStrike">
                <a:solidFill>
                  <a:srgbClr val="99cc00"/>
                </a:solidFill>
                <a:latin typeface="Wingdings"/>
                <a:ea typeface="Wingdings"/>
              </a:rPr>
              <a:t></a:t>
            </a:r>
            <a:r>
              <a:rPr b="1" lang="en-US" sz="1600" spc="-1" strike="noStrike">
                <a:solidFill>
                  <a:srgbClr val="99cc00"/>
                </a:solidFill>
                <a:latin typeface="Courier New"/>
              </a:rPr>
              <a:t> A Person, AND with at least 1 sp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99cc00"/>
                </a:solidFill>
                <a:latin typeface="Courier New"/>
              </a:rPr>
              <a:t>// A list must be created, that will hold the Person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Courier New"/>
              </a:rPr>
              <a:t>// </a:t>
            </a:r>
            <a:r>
              <a:rPr b="1" lang="el-GR" sz="1600" spc="-1" strike="noStrike">
                <a:solidFill>
                  <a:srgbClr val="99cc00"/>
                </a:solidFill>
                <a:latin typeface="Courier New"/>
              </a:rPr>
              <a:t>and the min cardinality restri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urier New"/>
              </a:rPr>
              <a:t>RDFNode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[] constraintsArray = { person, mincr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urier New"/>
              </a:rPr>
              <a:t>RDFList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constraints = ontModel.createList(constraintsArra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Courier New"/>
              </a:rPr>
              <a:t>// The two classes are combined into one intersection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urier New"/>
              </a:rPr>
              <a:t>IntersectionClass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ic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ontModel.createIntersectionClass(null, constraint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Courier New"/>
              </a:rPr>
              <a:t>// ‘MarriedPerson’ is declared as an equivalent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Courier New"/>
              </a:rPr>
              <a:t>// intersection class defined ab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marriedPerson.setEquivalentClass(i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bilities of 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n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F concepts in 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RQL Query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WL API Example: Defined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05 - log4"/>
          <p:cNvPicPr/>
          <p:nvPr/>
        </p:nvPicPr>
        <p:blipFill>
          <a:blip r:embed="rId1"/>
          <a:stretch/>
        </p:blipFill>
        <p:spPr>
          <a:xfrm>
            <a:off x="0" y="1773360"/>
            <a:ext cx="8893080" cy="1539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06 - log4"/>
          <p:cNvPicPr/>
          <p:nvPr/>
        </p:nvPicPr>
        <p:blipFill>
          <a:blip r:embed="rId2"/>
          <a:stretch/>
        </p:blipFill>
        <p:spPr>
          <a:xfrm>
            <a:off x="1042920" y="4005360"/>
            <a:ext cx="68407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a is designed so that inference engines can be ‘plugged’ in Models and reason with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soning subsystem of Jena is found in the com.hp.hpl.jena.reasoner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asoners must provide implementations of the ‘Reasoner’ Java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a provides some inference engines, which however have limited reasoning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ible through the ReasonerRegistry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 Reasoner object is obtained, it must be ‘attached’ to a Model. This is accomplished by modifying the Model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of the OntModelSpec class are used to form model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profile (RDF, OWL-Lite, OWL-DL, OWL Full, DA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a provides predefined OntModelSpec objects for basic Model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The OntModelSpec.OWL_DL_MEM object is a specification of OWL-DL models, stored in memory, which use no reaso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er implementations can then be attached, as in the followin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3320" y="4865760"/>
            <a:ext cx="9202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Courier New"/>
              </a:rPr>
              <a:t>// PelletReasonerFactory is found in the Pellet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urier New"/>
              </a:rPr>
              <a:t>Reasoner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reasoner = PelletReasonerFactory.theInstance().creat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Courier New"/>
              </a:rPr>
              <a:t>// Obtain standard OWL-DL spec and attach the Pellet reaso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urier New"/>
              </a:rPr>
              <a:t>OntModelSpec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ontModelSpec = </a:t>
            </a:r>
            <a:r>
              <a:rPr b="1" lang="el-GR" sz="1600" spc="-1" strike="noStrike">
                <a:solidFill>
                  <a:srgbClr val="000000"/>
                </a:solidFill>
                <a:latin typeface="Courier New"/>
              </a:rPr>
              <a:t>OntModelSpec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.OWL_DL_M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ontModelSpec.setReasoner(reaso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Courier New"/>
              </a:rPr>
              <a:t>// Create ontology model with reasoner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urier New"/>
              </a:rPr>
              <a:t>OntModel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ontModel = </a:t>
            </a:r>
            <a:r>
              <a:rPr b="1" lang="el-GR" sz="1600" spc="-1" strike="noStrike">
                <a:solidFill>
                  <a:srgbClr val="000000"/>
                </a:solidFill>
                <a:latin typeface="Courier New"/>
              </a:rPr>
              <a:t>ModelFactory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.createOntologyModel(ontModelSpec, mode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rt from the reference to a Reasoner object, no further actions are required to enable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Models without reasoning support will answer queries using only the asserted statements, while OntModels with reasoning support will infer additional statements, without any interaction with the progra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24000" y="3643200"/>
            <a:ext cx="8569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Courier New"/>
              </a:rPr>
              <a:t>// MarriedPerson has no asserted in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Courier New"/>
              </a:rPr>
              <a:t>// However, if an inference engine is used, two of the th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Courier New"/>
              </a:rPr>
              <a:t>// individuals in the example presented here will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Courier New"/>
              </a:rPr>
              <a:t>// recognized as MarriedPers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t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arriedPerson = ontModel.getOntClass(ns + “MarriedPerson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ExtendedIterator married = marriedPerson.listInstance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while(married.hasNext()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OntResource mp = (OntResource)married.n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System.out.println(mp.getURI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RQL query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a uses the ARQ engine for the processing of SPARQL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Q API classes are found in com.hp.hpl.jena.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classes in ARQ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: Represents a single SPARQL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: The knowledge base on which queries are executed (Equivalent to RDF Mod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Factory: Can be used to generate Query objects from SPARQL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Execution: Provides methods for the execution of qu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et: Contains the results obtained from an executed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Solution: Represents a row of query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are many answers to a query, a ResultSet is returned after the query is executed. The ResultSet contains many Query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RQL query executio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// Prepare query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String queryString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PREFIX rdf: &lt;http://www.w3.org/1999/02/22-rdf-syntax-ns#&gt;\n"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PREFIX : &lt;http://www.example.com/onto1#&gt;\n"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SELECT ?married ?spouse WHERE {"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?married rdf:type :MarriedPerson.\n"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?married :hasSpouse ?spouse."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}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// Use the ontology model to create a Dataset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// Note: If no reasoner has been attached to the model, no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// will be returned (MarriedPerson has no asserted instan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Datase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dataset = DatasetFactory.create(ontMode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// Parse query string and create Query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q = QueryFactory.create(queryStrin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// Execute query and obtain result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QueryExecutio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qexec = QueryExecutionFactory.create(q, datase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ResultSe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resultSet = qexec.execSelec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RQL query executio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// Print 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while(resultSet.hasNext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// Each row contains two fields: ‘married’ and ‘spouse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// as defined in the query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QuerySolution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row = (QuerySolution)resultSet.nex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RDFNode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nextMarried = row.get("marrie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System.out.print(nextMarried.toString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System.out.print(" is married to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RDFNod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nextSpouse = row.get("spous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System.out.println(nextSpouse.toString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a can be used to manage existent ontologies, or create ontologies from scr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ardless of the storag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the triple and/or XML form of ontology documents is required, since some complex concepts like restrictions, RDF lists and defined classes must be created in certain ways (otherwise, inconsistencies may be ca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ing with existent data in order to obtain inferre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engines must provide implementations of a specific Java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omplex ontologies, reasoning may slow down your application, especially if data is inserted or removed regularly from the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mportant to know when an inference engine is actually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J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a is a Java framework for the creation of applications for the Semantic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interfaces and classes for the creation and manipulation of RDF repos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provides classes/interfaces for the management of OWL-based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bilities of J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F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and writing in RDF/XML, N-Tr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memory and persistent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RQL query eng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DF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, Properties, Literals, Statements (Triples: &lt;subj pred obj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t of (related) statements constitute an RDF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ena RDF API contains classes and interfaces for every important aspect of the RDF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be used in order to construct RDF graphs from scratch, or edit existent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lasses/interfaces reside in the com.hp.hpl.jena.rdf.model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Jena, the Model interface is used to represent RDF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Model, statements can be obtained/ created/ removed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DF API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50920" y="1413000"/>
            <a:ext cx="88930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99cc00"/>
                </a:solidFill>
                <a:latin typeface="Courier New"/>
              </a:rPr>
              <a:t>// Create an empty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urier New"/>
              </a:rPr>
              <a:t>Model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model = </a:t>
            </a:r>
            <a:r>
              <a:rPr b="1" lang="el-GR" sz="1600" spc="-1" strike="noStrike">
                <a:solidFill>
                  <a:srgbClr val="000000"/>
                </a:solidFill>
                <a:latin typeface="Courier New"/>
              </a:rPr>
              <a:t>ModelFactory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.createDefaultMode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= new String("http://www.example.com/example#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99cc00"/>
                </a:solidFill>
                <a:latin typeface="Courier New"/>
              </a:rPr>
              <a:t>// Create two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urier New"/>
              </a:rPr>
              <a:t>Resource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john = model.createResource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+ "Joh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urier New"/>
              </a:rPr>
              <a:t>Resource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jane = model.createResource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+ "Jane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99cc00"/>
                </a:solidFill>
                <a:latin typeface="Courier New"/>
              </a:rPr>
              <a:t>// Create the 'hasBrother' Property decl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urier New"/>
              </a:rPr>
              <a:t>Property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hasBrother = model.createProperty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, "hasBrother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99cc00"/>
                </a:solidFill>
                <a:latin typeface="Courier New"/>
              </a:rPr>
              <a:t>// Associate jane to john through 'hasBroth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jane.addProperty(hasBrother, joh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99cc00"/>
                </a:solidFill>
                <a:latin typeface="Courier New"/>
              </a:rPr>
              <a:t>// Create the 'hasSister' Property decl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urier New"/>
              </a:rPr>
              <a:t>Property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hasSister = model.createProperty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, "hasSister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99cc00"/>
                </a:solidFill>
                <a:latin typeface="Courier New"/>
              </a:rPr>
              <a:t>// Associate john and jane through 'hasSister' with a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urier New"/>
              </a:rPr>
              <a:t>Statement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sisterStmt = model.createStatement(john, hasSister, ja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model.add(sisterStm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/Writing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F Models can be retrieved from external sources (files/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a Model retrieved by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11280" y="284148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ourier New"/>
              </a:rPr>
              <a:t>// The location of the RDF file is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fileURI = “file:myRDF.rdf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ourier New"/>
              </a:rPr>
              <a:t>// An empty Model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e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odelFromFil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elFacto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createDefaultMod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ourier New"/>
              </a:rPr>
              <a:t>// The Model retrieves the definitions in the RDF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FromFile.read(fileUR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39640" y="55958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ourier New"/>
              </a:rPr>
              <a:t>// The destination and RDF dialect are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.write(System.out, “RDF/XML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68360" y="484020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a Model being written to the stanadard output in RDF/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from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ckage com.hp.hpl.jena.db is used to provide persistent storage of Jena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ing a Model in a MySQL D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68360" y="2511360"/>
            <a:ext cx="8161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99cc00"/>
                </a:solidFill>
                <a:latin typeface="Courier New"/>
              </a:rPr>
              <a:t>// Load MySQL dr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Class.forName("com.mysql.jdbc.Driv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catch(ClassNotFoundException e) {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99cc00"/>
                </a:solidFill>
                <a:latin typeface="Courier New"/>
              </a:rPr>
              <a:t>// Create a database 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IDBConnection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conn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DBConnection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("jdbc:mysql://localhost/jenadb"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“user”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“pass”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, "MySQL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ModelMaker maker = ModelFactory.createModelRDBMaker(con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Courier New"/>
              </a:rPr>
              <a:t>// Retriev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Model dbModel = maker.openModel(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example.com/example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", 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Courier New"/>
              </a:rPr>
              <a:t>// View all the statements in the model as tri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StmtIterator iter = dbModel.listStatement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while(iter.hasNext()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Statement stmt = (Statement)iter.nex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System.out.println(stmt.asTriple().toString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na OWL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L is an extension to RDF. This relation is reflected in the Jena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L related classes/interfaces extend or use classes/interfaces of the RDF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type properties, Object properties, Symmetric, Functional, InverseFunctio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tology Resource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sses, 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lass-superclass relations (from RD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cy/Disjoin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 on properties (AllValuesFrom, &lt;Min/Max&gt;Cardinality restriction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WL API of Jena provides classes/interfaces to represent all aspects of the OWL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classes/interfaces reside in the com.hp.hpl.jena.ontology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Model is the interface mostly used to manage 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9:07:10Z</dcterms:created>
  <dc:creator>Kostas Tzonas</dc:creator>
  <dc:description/>
  <dc:language>en-US</dc:language>
  <cp:lastModifiedBy> </cp:lastModifiedBy>
  <dcterms:modified xsi:type="dcterms:W3CDTF">2011-04-21T22:18:18Z</dcterms:modified>
  <cp:revision>22</cp:revision>
  <dc:subject/>
  <dc:title>The Jena RDF Framework</dc:title>
</cp:coreProperties>
</file>